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946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3099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5633640" y="-360"/>
            <a:ext cx="431028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325728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6513120"/>
            <a:ext cx="43099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2008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5633640" y="6513120"/>
            <a:ext cx="431028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BA440-5A8A-4B2B-A2AC-7D8FFD2405AF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0" y="6513480"/>
            <a:ext cx="43099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2008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22813-7AE6-47AE-95A0-E80ADA6C876F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0" y="6513480"/>
            <a:ext cx="43099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2008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BB83D-EBC7-46DA-AE86-251929E1F87B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C41C-C3DE-4898-A3F0-C89CBAEB5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67057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4219200"/>
            <a:ext cx="67057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0960-5378-4102-A44E-CC56DF4A2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32720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93040" y="2133720"/>
            <a:ext cx="32720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219200"/>
            <a:ext cx="32720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93040" y="4219200"/>
            <a:ext cx="32720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C18C-163C-47DF-B35D-8FDA651A9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21589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24120" y="2133720"/>
            <a:ext cx="21589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91400" y="2133720"/>
            <a:ext cx="21589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4219200"/>
            <a:ext cx="21589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24120" y="4219200"/>
            <a:ext cx="21589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4991400" y="4219200"/>
            <a:ext cx="21589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136A-9834-4598-92CF-1E75823AE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2133720"/>
            <a:ext cx="670572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5734-997B-44A0-93C1-C3BA94610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67057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E472-260B-428E-AF7F-32C982C47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32720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893040" y="2133720"/>
            <a:ext cx="32720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7950-658A-4415-9A43-8CF05B61E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BADD-B959-400A-90DB-760B847E9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896400"/>
            <a:ext cx="670572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09CA-960F-466C-8C09-BAE9E09E4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32720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893040" y="2133720"/>
            <a:ext cx="32720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4219200"/>
            <a:ext cx="32720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9EFB-9DCB-4A9C-B4DD-D6A081B4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32720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893040" y="2133720"/>
            <a:ext cx="32720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93040" y="4219200"/>
            <a:ext cx="32720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169D-5F0B-4AA5-8519-4BEA5092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32720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93040" y="2133720"/>
            <a:ext cx="32720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4219200"/>
            <a:ext cx="67057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2B8B-AF49-431D-B29C-40EDC225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2133720"/>
            <a:ext cx="67057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50359-E034-450C-AF04-F0E9FA4BE41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74AD-E1F0-4323-8283-CDC512B6D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9"/>
          <p:cNvGrpSpPr/>
          <p:nvPr/>
        </p:nvGrpSpPr>
        <p:grpSpPr>
          <a:xfrm>
            <a:off x="0" y="0"/>
            <a:ext cx="9067680" cy="6705720"/>
            <a:chOff x="0" y="0"/>
            <a:chExt cx="9067680" cy="6705720"/>
          </a:xfrm>
        </p:grpSpPr>
        <p:pic>
          <p:nvPicPr>
            <p:cNvPr id="6" name="Picture 7" descr="MS3 copy"/>
            <p:cNvPicPr/>
            <p:nvPr/>
          </p:nvPicPr>
          <p:blipFill>
            <a:blip r:embed="rId2">
              <a:grayscl/>
              <a:lum bright="20000"/>
            </a:blip>
            <a:stretch/>
          </p:blipFill>
          <p:spPr>
            <a:xfrm>
              <a:off x="0" y="0"/>
              <a:ext cx="7238880" cy="71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8" descr="MS2 copy"/>
            <p:cNvPicPr/>
            <p:nvPr/>
          </p:nvPicPr>
          <p:blipFill>
            <a:blip r:embed="rId3"/>
            <a:stretch/>
          </p:blipFill>
          <p:spPr>
            <a:xfrm>
              <a:off x="7300800" y="76320"/>
              <a:ext cx="1766880" cy="66294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bacterial%20studies.mp4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5"/>
          <p:cNvSpPr/>
          <p:nvPr/>
        </p:nvSpPr>
        <p:spPr>
          <a:xfrm>
            <a:off x="152280" y="2060640"/>
            <a:ext cx="701064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hapter 1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cience at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444600" y="5334120"/>
            <a:ext cx="4584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ntirna Coll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1042920" y="3716280"/>
            <a:ext cx="53373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ar 8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741840" y="4076640"/>
            <a:ext cx="299088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67057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periment must be able to be replic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ientific Thin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844280"/>
            <a:ext cx="670572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acterial Investi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Times New Roman"/>
              </a:rPr>
              <a:t>The Dirtiest Item at Scho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67057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s a class we believe that ________ is the dirtiest item in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ur hypothesis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f _____ then 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716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99"/>
                </a:solidFill>
                <a:uFillTx/>
                <a:latin typeface="Times New Roman"/>
              </a:rPr>
              <a:t>The Dirtiest Item at School 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6705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ur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independent variable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will be 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ur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ependent variable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will be 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ur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ontrolled variable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ill be 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716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99"/>
                </a:solidFill>
                <a:uFillTx/>
                <a:latin typeface="Times New Roman"/>
              </a:rPr>
              <a:t>The Dirtiest Item at School 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6705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e are going to test our hypothesis by 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e are going to measure our results by 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ur procedure will be 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 materials we will need are 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716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ing a prac repor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6705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716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ing a prac repor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6705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 about what you di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your results and observ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what went wr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re unexpected resul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ggestions to improve the pr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716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ing a prac repor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6705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-2 sentences to answer the ai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USE I or W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716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e Dirtiest Item at School 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6705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were our independent, dependent and controlled variabl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do these results mea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s it important not to touch the pla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you touch anything other than the item being tested with the swab? Why/Why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there any unexpected resul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could we improve the experiment next ti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-2 sent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Science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915920"/>
            <a:ext cx="6705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ce is discovery and knowledge. It is about finding out why things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ce is the understanding of the world we live i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about improving our quality of life. Technology refers to devices that have been produced using scientific id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are scientist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67057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log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trono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th Scient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Scientific Thin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67057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333399"/>
                </a:solidFill>
                <a:uFillTx/>
                <a:latin typeface="Arial"/>
              </a:rPr>
              <a:t>Obser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99"/>
                </a:solidFill>
                <a:latin typeface="Arial"/>
              </a:rPr>
              <a:t>Something we see and want to find out more ab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ientific Thin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67057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n educated guess to answer a question.  Used to plan an experi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ientific Thin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67057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99"/>
                </a:solidFill>
                <a:latin typeface="Arial"/>
              </a:rPr>
              <a:t>Develop a Fair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99"/>
                </a:solidFill>
                <a:latin typeface="Arial"/>
              </a:rPr>
              <a:t>A fair test is one that all variables are kept constant except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ientific Thin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67057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99"/>
                </a:solidFill>
                <a:latin typeface="Arial"/>
              </a:rPr>
              <a:t>Contr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99"/>
                </a:solidFill>
                <a:latin typeface="Arial"/>
              </a:rPr>
              <a:t>A component where all parts are const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ientific Thin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67057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omething that changes and may affect th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ndependent variabl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actor that will be chan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ependent Variabl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actor that will be measu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ontrolled Variabl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actor that will be kept con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896400"/>
            <a:ext cx="67057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ientific Thin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67057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riting a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 report must conta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Hypo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sults/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02:02:36Z</dcterms:created>
  <dc:creator>Administrator</dc:creator>
  <dc:description/>
  <cp:keywords/>
  <dc:language>en-US</dc:language>
  <cp:lastModifiedBy>Frank</cp:lastModifiedBy>
  <dcterms:modified xsi:type="dcterms:W3CDTF">2012-02-21T11:08:36Z</dcterms:modified>
  <cp:revision>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24121033</vt:lpwstr>
  </property>
</Properties>
</file>